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E91-30DF-4835-8974-BF2B546D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1DC-C615-4681-9A0E-717F2B82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90B-8E65-46E1-8CA7-9F1A8D48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657-BE70-4753-AEB2-61CAF0F4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028-2529-4F98-97DC-63B50FED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C3D-145A-4752-AAA4-1901AD5D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70E-B13D-4901-A7C8-C526C30C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F9C-8B30-4120-BD10-6734B7D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C40-56C1-4696-93FD-2C7F19D6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7EB-DC9C-4DC2-80D8-9951E70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E94-E53D-4A2B-AB9C-875BF2B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8FF-8F58-409F-850C-0347427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5E62-9003-4227-9228-661AB3AB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pravodaj.genderstudies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nderstudies.cz/" TargetMode="External"/><Relationship Id="rId2" Type="http://schemas.openxmlformats.org/officeDocument/2006/relationships/hyperlink" Target="http://www.genderstudies.cz/" TargetMode="External"/><Relationship Id="rId3" Type="http://schemas.openxmlformats.org/officeDocument/2006/relationships/hyperlink" Target="http://zpravodaj.genderstudies.cz/" TargetMode="External"/><Relationship Id="rId4" Type="http://schemas.openxmlformats.org/officeDocument/2006/relationships/hyperlink" Target="http://www.rovneprilezitosti.cz/" TargetMode="External"/><Relationship Id="rId5" Type="http://schemas.openxmlformats.org/officeDocument/2006/relationships/hyperlink" Target="http://www.rovneprilezitosti.ecn.cz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vné příležitosti žen a mužů v ESF projektech Gender Studies, o.p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r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 Bosnič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07.2011 MPSV Č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„sociální pohlaví“ - něco, co není „od přírody“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vs. biologické pohlaví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yjadřuje, že vlastnosti a chování spojované s muži a ženami jsou formovány kulturou a společností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konstruktivismus vs. esencialismu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ová rovnost/ RP žen a muž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namená stejnost mužů a ž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mená, že ženy a muži by měli mít v život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vné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muži a ženami existuje řada rozdílů, ale tyto rozdíly nesmí být důvodem a základem jakéko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krimin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společ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ová rovnost zakotvena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ě ČR a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působ myš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louhodobá záležito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derové stereoty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edstavy o tom, jaké a jací mají ženy a muži být, a jak se mají ch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e se s genderovými stereotypy (a diskriminací na základě pohlaví) často setkávám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rh prác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bor a propouštění, vzdělávání a kariérní postup, vertikální a horizontální segregace pracovního trhu, slaďování osobního a pracovního života, genderový mzdový rozdíl,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azyk – generické maskul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Rodinný život (dělba práce, rodičov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zdělávácí systém (učeb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 Gender Studies pracuje s genderem v rámci ESF projektů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lexní klíčové aktivity zaměřené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šechny cílové skup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visející s pracovním trhem (zaměstnavatelé, zaměstnaní – s  důrazem na tzv. ohrožené cílové skupiny – ((budoucí) rodiče malých dětí, matky (a otcové) po rodičovské dovolené, lidé 50+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 Mainstream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zaměstnavate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ITIVNÍ MOTIV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e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ma roku: Rovné příležitosti a Úřad roku Půl na pů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derových audi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VĚ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adenstv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v oblasti podpory rovných příležitostí a slaďování osobního a pracovního života formou osobních, telefonických a e-mailových konzult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a úřady šitá na míru v různých oblastech souvisejících s genderem (gender a marketing, firemní školky, atd.) – pro management i celoploš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m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ktro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ěsíční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vné příležitosti do firem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zpravodaj.genderstudies.c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a jeho speciálních tištěných vy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orba a vydává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ávních expertíz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ktických manuál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ízů a 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manažery a manažer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řádání (mezinárodních) konferencí, kulatých stolů pro fi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jiné PR materiá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ohrožené cílové skup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ávní poradna „Půl na půl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efonická, online, osob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hovna a informační cen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droj inform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šitá na míru, např. pro  mateřská centra, kde se cílová skupina „zdržuj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rba a vydávání praktických manuálů a poradc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př. „Nenechte se diskriminova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dávání novin „Půl na půl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íležitosti oslav Mezinárodního dne ro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řádání konferencí, worksh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jiné PR materiá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.bosnicova@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24 915 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zpravodaj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rovneprilezitosti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rovneprilezitosti.ecn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43:36Z</dcterms:created>
  <dc:creator>Medvedici</dc:creator>
  <dc:description/>
  <dc:language>en-US</dc:language>
  <cp:lastModifiedBy>nina</cp:lastModifiedBy>
  <dcterms:modified xsi:type="dcterms:W3CDTF">2011-07-26T07:39:42Z</dcterms:modified>
  <cp:revision>140</cp:revision>
  <dc:subject/>
  <dc:title>Prolomte genderové stereotypy. Dejte talentu šanci.</dc:title>
</cp:coreProperties>
</file>